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057-693C-4ED4-A59D-C06DA4E1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8F1-4EAB-4573-A6C7-DAF82F96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7F4-7E7A-4D43-B809-B3CF4A99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F6D-233E-42B4-ADB8-BADFA259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0BD0B-A8CA-4796-AE67-505FC1C8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5936B-4801-4AB9-8D97-0020260D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CA2DC-2D6D-494D-B236-A61FAF2B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AD5FD-11B8-4094-9A7E-82489BEE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A7846-CD39-45D6-AF2B-0826288E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6EF8C-4E2D-4197-8916-CEAA2809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A4684-9961-4E90-BB67-39703D25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6A9-3AC3-425C-9D56-8429835E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34323-87C4-4AD2-8EDA-384D69E8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5701A-AFA7-4092-880E-0E129524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83AC0-DFD3-45D7-AE7E-17B64E1F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9FCED-5DF2-4B06-B76A-8CDF2D0C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3F8CB-4837-4515-932F-BECEC72A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0E7-FC0D-443C-8005-255EFEA2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18E-D455-4BCA-AEED-E0F89D9D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1A5-A883-48A8-B507-41D2E51E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B16-FB92-465B-B573-2B9BEB04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557-0DF1-4024-8B29-37512641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4EE-0D54-48F3-B97B-080A13C9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16F-2CF3-42CF-8D43-68230A1A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1DBE-C419-4CE8-A20E-7FD35313D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6F35-7806-4DAF-A600-591103A29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c.gov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onabo Cami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ibrary of Congres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Lite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loc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6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11721" t="9376" r="14065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3127" t="9376" r="3127" b="6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9376" r="0" b="5030"/>
          <a:stretch/>
        </p:blipFill>
        <p:spPr>
          <a:xfrm>
            <a:off x="-304920" y="0"/>
            <a:ext cx="9753840" cy="701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0" t="9376" r="1562" b="4169"/>
          <a:stretch/>
        </p:blipFill>
        <p:spPr>
          <a:xfrm>
            <a:off x="-15228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783" t="9376" r="2344" b="5207"/>
          <a:stretch/>
        </p:blipFill>
        <p:spPr>
          <a:xfrm>
            <a:off x="0" y="-22860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9376" r="7032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9376" r="13282" b="4169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rcRect l="0" t="9376" r="10155" b="4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0" t="9376" r="11721" b="4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0" t="9376" r="12500" b="5207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9376" r="3127" b="6039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15626" t="9376" r="10938" b="50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rcRect l="15626" t="9376" r="11721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rcRect l="15626" t="9376" r="10155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783" t="9376" r="2344" b="4169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11721" t="9376" r="14065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3127" t="9376" r="3127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11721" t="9376" r="14065" b="4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1721" t="9376" r="14065" b="3125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11721" t="9376" r="14065" b="5070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11721" t="9376" r="13282" b="5207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20:29:46Z</dcterms:created>
  <dc:creator>Microsoft</dc:creator>
  <dc:description/>
  <dc:language>en-US</dc:language>
  <cp:lastModifiedBy>Microsoft</cp:lastModifiedBy>
  <dcterms:modified xsi:type="dcterms:W3CDTF">2011-10-19T21:48:10Z</dcterms:modified>
  <cp:revision>3</cp:revision>
  <dc:subject/>
  <dc:title>Caonabo Camilo</dc:title>
</cp:coreProperties>
</file>